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1B6048-DABB-46C8-82E1-8FB03E3F2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CC162D-E236-4D55-9121-F3CD9854B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5480" y="3921120"/>
            <a:ext cx="51850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9CB582-2DF8-4977-97FC-110E0B2D5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5480" y="3921120"/>
            <a:ext cx="51850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CF698F-01B2-4F26-8E08-1A62F91AE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583E-7BD4-4E26-B078-2376180F9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4849-A48F-4BAE-BAFC-0B9AEA4B7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C1A3-063C-46EE-8C33-71D684E8E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0C34-AB3B-46B5-9223-FB7A044B9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1772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6E85-959C-4E8A-8AE3-7C8E735FD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A3A1-09F3-462D-B0DE-9937A74AE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CE3E-CB5B-4B03-A93F-E0C880968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9546-B42A-47CB-8142-A84AA8A75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1772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DC49-BACD-4272-87B5-8A10CEB46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BE45-D239-44F3-A2BA-5FD22461E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65A7-DDC0-4930-88C1-CADC5CDDC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001F-1BD9-4058-BD62-F73C260C2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CFBFEFD2-6150-4635-A7A3-A7BFD021A5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hyperlink" Target="mailto:segger@erco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193320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rak Projec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35400" y="3362400"/>
            <a:ext cx="62100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gr, Market Ops Divisional Projects Organ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S Me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10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17720" y="12204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Status Updat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1600" y="961920"/>
            <a:ext cx="8739360" cy="5734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RCOT announces schedul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n by errors in XSD document for API; no impact to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roposes new schedule with August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review / input to schedule solic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s found in XSD (API mapping document to MarkeTrak business proc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select MPs &amp; ERCOT for delivery of Bulk Insert &amp; API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relied on vendor expertise to review quality at time of initial XSD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s require additional time by ERCOT to complete XSD quality revi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to XSD increase development efforts and delay testing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s to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production release schedule for August 2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 development extended into end of 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 testing cannot complete prior to QA Build Out project lockdown of UAT &amp; Market test environments (June 2 – July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 testing scheduled after lockdown; subsequent delay to dependent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s to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budget impact to ERCOT; additional Dev resource needs for UAT support covered with existing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BEE5-0C22-4FD2-BE62-F840BB825180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H="1" flipV="1">
            <a:off x="8298000" y="3053880"/>
            <a:ext cx="17136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092400" y="2064960"/>
            <a:ext cx="1698840" cy="95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952280" y="3066840"/>
            <a:ext cx="46836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981000"/>
            <a:ext cx="0" cy="4496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133800" y="2206800"/>
            <a:ext cx="317520" cy="85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273120" y="3042720"/>
            <a:ext cx="38412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17720" y="12204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vised Project Timelin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981000"/>
            <a:ext cx="0" cy="4496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981000"/>
            <a:ext cx="0" cy="4496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981000"/>
            <a:ext cx="0" cy="4496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86800" y="981000"/>
            <a:ext cx="0" cy="4496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038400"/>
            <a:ext cx="8610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6120" y="10638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Apr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70000" y="106380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M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0638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J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27600" y="106380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J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0" y="106380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4382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0080" y="3038040"/>
            <a:ext cx="565200" cy="9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429760" y="2886120"/>
            <a:ext cx="228600" cy="228600"/>
          </a:xfrm>
          <a:prstGeom prst="star5">
            <a:avLst/>
          </a:prstGeom>
          <a:solidFill>
            <a:srgbClr val="00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05240" y="3038040"/>
            <a:ext cx="28116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038400"/>
            <a:ext cx="2011320" cy="0"/>
          </a:xfrm>
          <a:prstGeom prst="line">
            <a:avLst/>
          </a:prstGeom>
          <a:ln w="28440">
            <a:solidFill>
              <a:srgbClr val="9a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9760" y="2771640"/>
            <a:ext cx="23749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QA Build-out Project Lock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UAT &amp; Mkt Test Environments    unavailable for 5 w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4952880" y="2047680"/>
            <a:ext cx="5335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96244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1514520"/>
            <a:ext cx="838080" cy="70488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7/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kt Connectivity Tes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1520" y="3822840"/>
            <a:ext cx="685800" cy="94824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4/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ERCOT Post of XSD Revision to Mk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41880" y="3038400"/>
            <a:ext cx="54000" cy="10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81600" y="3828960"/>
            <a:ext cx="609840" cy="113328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7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Train the Trainer” Sessions Start</a:t>
            </a: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(2 wk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7448040" y="2125440"/>
            <a:ext cx="546120" cy="9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7605360" y="3025800"/>
            <a:ext cx="57240" cy="10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81800" y="3862440"/>
            <a:ext cx="609840" cy="826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8/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inal User Guides Av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534520" y="2184120"/>
            <a:ext cx="7452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6280" y="3819600"/>
            <a:ext cx="685800" cy="10116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7/10</a:t>
            </a: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API &amp; Bulk Insert UAT 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(3 wk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28120" y="2254320"/>
            <a:ext cx="233640" cy="78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9520" y="1504800"/>
            <a:ext cx="685800" cy="7682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4/21</a:t>
            </a:r>
            <a:r>
              <a:rPr b="1" lang="en-US" sz="10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GUI UAT 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(4 wk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30440" y="2092320"/>
            <a:ext cx="46080" cy="9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3440" y="1514520"/>
            <a:ext cx="685800" cy="826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5/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User Guide Draft (v2) Relea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784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629400" y="2352240"/>
            <a:ext cx="587520" cy="66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39080" y="1566720"/>
            <a:ext cx="733320" cy="70488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8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GUI &amp; API Mkt T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523880" y="3038040"/>
            <a:ext cx="84240" cy="10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85920" y="3825720"/>
            <a:ext cx="685800" cy="11916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5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kt Begins to Submit Requests for Digital Ce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02680" y="1608120"/>
            <a:ext cx="803160" cy="896400"/>
          </a:xfrm>
          <a:prstGeom prst="rect">
            <a:avLst/>
          </a:prstGeom>
          <a:solidFill>
            <a:srgbClr val="00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8/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MarkeTrak Production Rele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665440" y="1974960"/>
            <a:ext cx="1440" cy="10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52600" y="1514520"/>
            <a:ext cx="685800" cy="5832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5/19</a:t>
            </a:r>
            <a:r>
              <a:rPr b="1" lang="en-US" sz="9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GUI UAT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813360" y="3038400"/>
            <a:ext cx="44280" cy="90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05560" y="3838680"/>
            <a:ext cx="716040" cy="826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7/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Train the Trainer” Sessions Complete</a:t>
            </a: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296244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743280"/>
            <a:ext cx="825480" cy="19267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6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API &amp; Bulk Insert Migration to UAT Enviro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GUI Migration to  Mkt Test Enviro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05000" y="1509840"/>
            <a:ext cx="762120" cy="9482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5/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API &amp; Bulk Insert Dev/Unit Test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791320" y="2123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00720" y="1514520"/>
            <a:ext cx="806400" cy="10699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7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API &amp; Bulk Insert Migration to Mkt Test Enviro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34200" y="1514520"/>
            <a:ext cx="609480" cy="10116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8/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GUI &amp; API Mkt  Test 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(2 wk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74880" y="2962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95560" y="3835440"/>
            <a:ext cx="685800" cy="826560"/>
          </a:xfrm>
          <a:prstGeom prst="rect">
            <a:avLst/>
          </a:prstGeom>
          <a:solidFill>
            <a:srgbClr val="99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We Are Here – RMS Up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3600" y="6189840"/>
            <a:ext cx="1401840" cy="215640"/>
          </a:xfrm>
          <a:prstGeom prst="rect">
            <a:avLst/>
          </a:prstGeom>
          <a:solidFill>
            <a:srgbClr val="99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To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16280" y="6189840"/>
            <a:ext cx="1401480" cy="2156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Key ERCOT D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06760" y="6189840"/>
            <a:ext cx="1401840" cy="21564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Key Market D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8520" y="6189840"/>
            <a:ext cx="1401480" cy="337320"/>
          </a:xfrm>
          <a:prstGeom prst="rect">
            <a:avLst/>
          </a:prstGeom>
          <a:solidFill>
            <a:srgbClr val="00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Production Release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824000">
            <a:off x="3391560" y="2274480"/>
            <a:ext cx="1449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I Connectiv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600" y="5770440"/>
            <a:ext cx="61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920" y="6049440"/>
            <a:ext cx="6276960" cy="9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296244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34200" y="3862440"/>
            <a:ext cx="693720" cy="8265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rebuchet MS"/>
              </a:rPr>
              <a:t>8/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Ps Complete Internal Tra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A129-EC56-4662-9D3D-7FB2CB695637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17720" y="12204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Training Plan Revision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2440" y="1057320"/>
            <a:ext cx="8437680" cy="5040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“Train the Trainer”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essions run from 9:00am to 4:00pm; individuals need to attend only on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ton – 4 s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2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t Centerpoi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to 24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llas – 4 s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2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t TX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to 24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s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31st at ERCOT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to 2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 Internal Training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 “trainers” taught by ERCOT will deliver internal MP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 timeframe between July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August 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552B-D15B-4409-9138-BBFA4B6E6DA5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to Migration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 of Issues &gt;6 months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will provide a report to MPs of issues older than 6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ing Issues &gt;12 months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weeks prior to product migration ERCOT will close issues greater than 12 months old and make available a report to M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Week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ble Entry of New Issues in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4:00pm on Friday prior to implementation (Aug 2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ERCOT will disable entry of new issues in FasTr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progress Issues in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will have the ability to work in progress issues in FasTr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 is Operational i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y of New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will start accepting new issues into MarkeTrak on Monday at 8:00am C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5880" y="5977080"/>
            <a:ext cx="14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y 9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17720" y="122040"/>
            <a:ext cx="7175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FasTrak to MarkeTrak Cut Over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6649-F272-4C03-8298-189783A3BEB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rak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rak Avai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will keep the FasTrak tool on-line (view and update only) for 90 calendar days after MarkeTrak is implemented (~end of Nov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utdown of Access to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month prior to shutdown of FasTrak – ERCOT will provide MPs a report of remaining open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week prior to shutdown of FasTrak – ERCOT will close remaining open issues and provide report to MP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for FasTrak Data After Shutdo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will maintain FasTrak data for a period of no longer than 7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can request FasTrak data from ERCOT after MarkeTrak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 times for these types of requests will be 7-10 business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5880" y="5977080"/>
            <a:ext cx="14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y 9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68520" y="122040"/>
            <a:ext cx="7524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FasTrak to MarkeTrak Cut Over Plan </a:t>
            </a: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DF6C-35DD-48C3-B2AF-5D5C2B4DC4C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040" y="1257480"/>
            <a:ext cx="800244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gr, Market Op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512) 248-3883 /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ott E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r. Business Analyst / MarkeTrak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512) 248-3162 /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17720" y="12204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uestions / Contact Information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F657-3CE0-40D6-B07E-F1D98B8F206F}" type="slidenum">
              <a:t>7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Adam Martinez</dc:creator>
  <dc:description/>
  <dc:language>en-US</dc:language>
  <cp:lastModifiedBy>ssanders</cp:lastModifiedBy>
  <dcterms:modified xsi:type="dcterms:W3CDTF">2006-05-10T19:53:03Z</dcterms:modified>
  <cp:revision>445</cp:revision>
  <dc:subject/>
  <dc:title>Slide 1</dc:title>
</cp:coreProperties>
</file>